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3.wmf" ContentType="image/x-wmf"/>
  <Override PartName="/ppt/media/image8.jpeg" ContentType="image/jpeg"/>
  <Override PartName="/ppt/media/image2.gif" ContentType="image/gif"/>
  <Override PartName="/ppt/media/image9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10.png" ContentType="image/png"/>
  <Override PartName="/ppt/media/image5.wmf" ContentType="image/x-wmf"/>
  <Override PartName="/ppt/media/image21.wmf" ContentType="image/x-wmf"/>
  <Override PartName="/ppt/media/image4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2FE36-C9D6-4206-ADA9-43679E65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C6EBA-98FD-437B-8C0C-2410AEB0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50460-5B82-475C-BA09-C3877AC9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3D07E-E260-4032-85F9-675ADAE9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3B29-3E19-4090-81E5-802A5970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8C54-E2F5-4D83-A768-63C1F535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5A9F-B24F-4A37-8568-A4CFF36E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2E54-1259-464D-9348-20667C39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E6B7-9004-458E-8FF2-400F3D74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6ADF-7F88-4F70-B977-F1DEF2B0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9589-D0D1-4011-86B5-D1883075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553C-031B-4136-BBF5-AE8AF98D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DC22-FE36-472D-97D4-6065F75F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B6D7-2CD2-49C9-88C3-F4842D6D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495E-9418-4A2B-857E-AF067BFB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B9CF-F0DD-40BB-9240-633CDC3A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36CA-2E62-4126-BBDE-BDC208FA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EB28D-80D6-4FA3-8803-889C1EE3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70C68-06CA-4F55-932A-FBE257E1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9322C-0BC4-4BEC-BED4-6E9D926A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EE950-CCD9-4B54-BCDF-15350421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25F7-EE74-46E9-AFB9-14F8EC61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E0CDF-2069-4554-8B32-BE28A45A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9C708-8867-4A8E-96E8-385820E6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A374-39B1-4331-8170-3AB6B3FB04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C665-931E-4736-B537-28A89267B79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Η ΧΗΜΕΙΑ ΤΟΥ ΑΝΘΡΑΚΑ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ΟΙ ΥΔΡΟΓΟΝΑΝΘΡΑΚΕ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539640" y="1279440"/>
          <a:ext cx="180036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79440"/>
                    <a:ext cx="180036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68360" y="2600280"/>
          <a:ext cx="243828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600280"/>
                    <a:ext cx="24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6300720" y="1087560"/>
          <a:ext cx="2052720" cy="14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1087560"/>
                    <a:ext cx="205272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6948360" y="2960640"/>
          <a:ext cx="1198800" cy="390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48360" y="2960640"/>
                    <a:ext cx="11988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539640" y="425592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000"/>
                </a:solidFill>
                <a:latin typeface="Tahoma"/>
              </a:rPr>
              <a:t>CH</a:t>
            </a:r>
            <a:r>
              <a:rPr b="0" lang="en-US" sz="2000" spc="-1" strike="noStrike" baseline="-25000">
                <a:solidFill>
                  <a:srgbClr val="602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04000" y="3968640"/>
            <a:ext cx="15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000"/>
                </a:solidFill>
                <a:latin typeface="Tahoma"/>
              </a:rPr>
              <a:t>CH</a:t>
            </a:r>
            <a:r>
              <a:rPr b="0" lang="en-US" sz="2000" spc="-1" strike="noStrike" baseline="-25000">
                <a:solidFill>
                  <a:srgbClr val="602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602000"/>
                </a:solidFill>
                <a:latin typeface="Tahoma"/>
              </a:rPr>
              <a:t>=CH–B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9280" y="260280"/>
            <a:ext cx="352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Υδρογονάνθρακες</a:t>
            </a:r>
            <a:endParaRPr b="0" lang="en-US" sz="1800" spc="1" strike="noStrike">
              <a:ln w="9360">
                <a:solidFill>
                  <a:srgbClr val="3333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4716360" y="0"/>
            <a:ext cx="0" cy="6858000"/>
          </a:xfrm>
          <a:prstGeom prst="line">
            <a:avLst/>
          </a:prstGeom>
          <a:ln w="28440">
            <a:solidFill>
              <a:srgbClr val="00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4724280"/>
            <a:ext cx="46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99"/>
                </a:solidFill>
                <a:latin typeface="Tahoma"/>
              </a:rPr>
              <a:t>Υδρογονάνθρακες ονομάζονται οι οργανικές ενώσεις που περιέχουν </a:t>
            </a:r>
            <a:r>
              <a:rPr b="1" lang="el-GR" sz="2400" spc="-1" strike="noStrike">
                <a:solidFill>
                  <a:srgbClr val="ff3300"/>
                </a:solidFill>
                <a:latin typeface="Tahoma"/>
              </a:rPr>
              <a:t>μόνο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 </a:t>
            </a:r>
            <a:r>
              <a:rPr b="1" lang="el-GR" sz="2400" spc="-1" strike="noStrike">
                <a:solidFill>
                  <a:srgbClr val="ff3300"/>
                </a:solidFill>
                <a:latin typeface="Tahoma"/>
              </a:rPr>
              <a:t>και Η</a:t>
            </a:r>
            <a:r>
              <a:rPr b="1" lang="el-GR" sz="2400" spc="-1" strike="noStrike">
                <a:solidFill>
                  <a:srgbClr val="00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64911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ΕΡΩΤΗΣΗ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627280" y="26028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ΧΗΜΙΚΕΣ ΕΝΩΣΕΙ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11640" y="620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64000" y="1557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ΑΝΟΡΓΑΝΕΣ ΕΝΩΣΕΙ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907640" y="1125360"/>
            <a:ext cx="2303640" cy="358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1640" y="1125360"/>
            <a:ext cx="2089080" cy="28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0920" y="1557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ΟΡΓΑΝΙΚΕΣ ΕΝΩΣΕΙ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-252360" y="1844640"/>
            <a:ext cx="5040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ahoma"/>
              </a:rPr>
              <a:t>Οι ενώσεις που περιέχουν άνθρακα (</a:t>
            </a:r>
            <a:r>
              <a:rPr b="1" i="1" lang="en-US" sz="1400" spc="-1" strike="noStrike">
                <a:solidFill>
                  <a:srgbClr val="cc3300"/>
                </a:solidFill>
                <a:latin typeface="Tahoma"/>
              </a:rPr>
              <a:t>C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 u="sng">
                <a:solidFill>
                  <a:srgbClr val="000000"/>
                </a:solidFill>
                <a:uFillTx/>
                <a:latin typeface="Tahoma"/>
              </a:rPr>
              <a:t>Εξαιρέσεις</a:t>
            </a:r>
            <a:r>
              <a:rPr b="1" i="1" lang="el-GR" sz="1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, CO , </a:t>
            </a:r>
            <a:r>
              <a:rPr b="1" i="1" lang="el-GR" sz="1400" spc="-1" strike="noStrike">
                <a:solidFill>
                  <a:srgbClr val="000000"/>
                </a:solidFill>
                <a:latin typeface="Tahoma"/>
              </a:rPr>
              <a:t>ανθρακικά άλατα π.χ.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CaCO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0360" y="1989000"/>
            <a:ext cx="19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Οι υπόλοιπε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71640" y="2492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.00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94036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00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187280" y="2781360"/>
            <a:ext cx="93672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95640" y="2781360"/>
            <a:ext cx="93636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8000" y="3284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Υδρογονάνθρακε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95640" y="2781360"/>
            <a:ext cx="50472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95640" y="2781360"/>
            <a:ext cx="1368360" cy="431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32846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Άλλες κατηγορίε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-324000" y="3573360"/>
            <a:ext cx="3132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Οι οργανικές ενώσεις πο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περιέχουν μόνο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i="1" lang="el-GR" sz="1600" spc="-1" strike="noStrike">
                <a:solidFill>
                  <a:srgbClr val="000000"/>
                </a:solidFill>
                <a:latin typeface="Tahoma"/>
              </a:rPr>
              <a:t>και 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971640" y="115920"/>
            <a:ext cx="7486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Καύση των υδρογονανθράκω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5113440" cy="609300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4427640" y="5373720"/>
            <a:ext cx="1512720" cy="719280"/>
            <a:chOff x="4427640" y="5373720"/>
            <a:chExt cx="1512720" cy="719280"/>
          </a:xfrm>
        </p:grpSpPr>
        <p:sp>
          <p:nvSpPr>
            <p:cNvPr id="291" name=""/>
            <p:cNvSpPr/>
            <p:nvPr/>
          </p:nvSpPr>
          <p:spPr>
            <a:xfrm>
              <a:off x="4427640" y="5373720"/>
              <a:ext cx="151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lang="en-US" sz="3200" spc="-1" strike="noStrike" baseline="-25000">
                  <a:solidFill>
                    <a:srgbClr val="ffff99"/>
                  </a:solidFill>
                  <a:latin typeface="Tahoma"/>
                </a:rPr>
                <a:t>4</a:t>
              </a:r>
              <a:r>
                <a:rPr b="1" lang="en-US" sz="3200" spc="-1" strike="noStrike">
                  <a:solidFill>
                    <a:srgbClr val="ffff99"/>
                  </a:solidFill>
                  <a:latin typeface="Tahoma"/>
                </a:rPr>
                <a:t>H</a:t>
              </a:r>
              <a:r>
                <a:rPr b="1" lang="en-US" sz="3200" spc="-1" strike="noStrike" baseline="-25000">
                  <a:solidFill>
                    <a:srgbClr val="ffff99"/>
                  </a:solidFill>
                  <a:latin typeface="Tahoma"/>
                </a:rPr>
                <a:t>1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500360" y="5950080"/>
              <a:ext cx="502920" cy="142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751280" y="1484280"/>
            <a:ext cx="1765440" cy="1008000"/>
            <a:chOff x="4751280" y="1484280"/>
            <a:chExt cx="1765440" cy="1008000"/>
          </a:xfrm>
        </p:grpSpPr>
        <p:sp>
          <p:nvSpPr>
            <p:cNvPr id="294" name=""/>
            <p:cNvSpPr/>
            <p:nvPr/>
          </p:nvSpPr>
          <p:spPr>
            <a:xfrm>
              <a:off x="4751280" y="1700280"/>
              <a:ext cx="757440" cy="792000"/>
            </a:xfrm>
            <a:custGeom>
              <a:avLst/>
              <a:gdLst/>
              <a:ahLst/>
              <a:rect l="l" t="t" r="r" b="b"/>
              <a:pathLst>
                <a:path w="477" h="499">
                  <a:moveTo>
                    <a:pt x="23" y="499"/>
                  </a:moveTo>
                  <a:cubicBezTo>
                    <a:pt x="11" y="439"/>
                    <a:pt x="0" y="379"/>
                    <a:pt x="23" y="318"/>
                  </a:cubicBezTo>
                  <a:cubicBezTo>
                    <a:pt x="46" y="257"/>
                    <a:pt x="114" y="181"/>
                    <a:pt x="159" y="136"/>
                  </a:cubicBezTo>
                  <a:cubicBezTo>
                    <a:pt x="204" y="91"/>
                    <a:pt x="242" y="69"/>
                    <a:pt x="295" y="46"/>
                  </a:cubicBezTo>
                  <a:cubicBezTo>
                    <a:pt x="348" y="23"/>
                    <a:pt x="412" y="11"/>
                    <a:pt x="477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8720" y="1484280"/>
              <a:ext cx="100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CO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786560" y="1909800"/>
            <a:ext cx="2017440" cy="733320"/>
            <a:chOff x="4786560" y="1909800"/>
            <a:chExt cx="2017440" cy="733320"/>
          </a:xfrm>
        </p:grpSpPr>
        <p:sp>
          <p:nvSpPr>
            <p:cNvPr id="297" name=""/>
            <p:cNvSpPr/>
            <p:nvPr/>
          </p:nvSpPr>
          <p:spPr>
            <a:xfrm rot="1057800">
              <a:off x="4859280" y="1989000"/>
              <a:ext cx="612720" cy="574920"/>
            </a:xfrm>
            <a:custGeom>
              <a:avLst/>
              <a:gdLst/>
              <a:ahLst/>
              <a:rect l="l" t="t" r="r" b="b"/>
              <a:pathLst>
                <a:path w="477" h="499">
                  <a:moveTo>
                    <a:pt x="23" y="499"/>
                  </a:moveTo>
                  <a:cubicBezTo>
                    <a:pt x="11" y="439"/>
                    <a:pt x="0" y="379"/>
                    <a:pt x="23" y="318"/>
                  </a:cubicBezTo>
                  <a:cubicBezTo>
                    <a:pt x="46" y="257"/>
                    <a:pt x="114" y="181"/>
                    <a:pt x="159" y="136"/>
                  </a:cubicBezTo>
                  <a:cubicBezTo>
                    <a:pt x="204" y="91"/>
                    <a:pt x="242" y="69"/>
                    <a:pt x="295" y="46"/>
                  </a:cubicBezTo>
                  <a:cubicBezTo>
                    <a:pt x="348" y="23"/>
                    <a:pt x="412" y="11"/>
                    <a:pt x="477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80000" y="1916280"/>
              <a:ext cx="122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H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808160" y="2150640"/>
            <a:ext cx="2716560" cy="1145880"/>
            <a:chOff x="4808160" y="2150640"/>
            <a:chExt cx="2716560" cy="1145880"/>
          </a:xfrm>
        </p:grpSpPr>
        <p:sp>
          <p:nvSpPr>
            <p:cNvPr id="300" name=""/>
            <p:cNvSpPr/>
            <p:nvPr/>
          </p:nvSpPr>
          <p:spPr>
            <a:xfrm rot="2644200">
              <a:off x="4932000" y="2205000"/>
              <a:ext cx="360360" cy="503280"/>
            </a:xfrm>
            <a:custGeom>
              <a:avLst/>
              <a:gdLst/>
              <a:ahLst/>
              <a:rect l="l" t="t" r="r" b="b"/>
              <a:pathLst>
                <a:path w="477" h="499">
                  <a:moveTo>
                    <a:pt x="23" y="499"/>
                  </a:moveTo>
                  <a:cubicBezTo>
                    <a:pt x="11" y="439"/>
                    <a:pt x="0" y="379"/>
                    <a:pt x="23" y="318"/>
                  </a:cubicBezTo>
                  <a:cubicBezTo>
                    <a:pt x="46" y="257"/>
                    <a:pt x="114" y="181"/>
                    <a:pt x="159" y="136"/>
                  </a:cubicBezTo>
                  <a:cubicBezTo>
                    <a:pt x="204" y="91"/>
                    <a:pt x="242" y="69"/>
                    <a:pt x="295" y="46"/>
                  </a:cubicBezTo>
                  <a:cubicBezTo>
                    <a:pt x="348" y="23"/>
                    <a:pt x="412" y="11"/>
                    <a:pt x="477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64000" y="2349360"/>
              <a:ext cx="2160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Θερμότητα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413440" y="1268280"/>
            <a:ext cx="1869120" cy="1368000"/>
            <a:chOff x="2413440" y="1268280"/>
            <a:chExt cx="1869120" cy="1368000"/>
          </a:xfrm>
        </p:grpSpPr>
        <p:sp>
          <p:nvSpPr>
            <p:cNvPr id="303" name=""/>
            <p:cNvSpPr/>
            <p:nvPr/>
          </p:nvSpPr>
          <p:spPr>
            <a:xfrm>
              <a:off x="2413440" y="1484280"/>
              <a:ext cx="1869120" cy="115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16360" y="1268280"/>
              <a:ext cx="647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Tahoma"/>
                </a:rPr>
                <a:t>Ο</a:t>
              </a:r>
              <a:r>
                <a:rPr b="1" lang="en-US" sz="2800" spc="-1" strike="noStrike" baseline="-25000">
                  <a:solidFill>
                    <a:srgbClr val="ffff99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024160" y="2582640"/>
            <a:ext cx="2716560" cy="719280"/>
            <a:chOff x="5024160" y="2582640"/>
            <a:chExt cx="2716560" cy="719280"/>
          </a:xfrm>
        </p:grpSpPr>
        <p:sp>
          <p:nvSpPr>
            <p:cNvPr id="306" name=""/>
            <p:cNvSpPr/>
            <p:nvPr/>
          </p:nvSpPr>
          <p:spPr>
            <a:xfrm rot="2644200">
              <a:off x="5148000" y="2637000"/>
              <a:ext cx="360360" cy="503280"/>
            </a:xfrm>
            <a:custGeom>
              <a:avLst/>
              <a:gdLst/>
              <a:ahLst/>
              <a:rect l="l" t="t" r="r" b="b"/>
              <a:pathLst>
                <a:path w="477" h="499">
                  <a:moveTo>
                    <a:pt x="23" y="499"/>
                  </a:moveTo>
                  <a:cubicBezTo>
                    <a:pt x="11" y="439"/>
                    <a:pt x="0" y="379"/>
                    <a:pt x="23" y="318"/>
                  </a:cubicBezTo>
                  <a:cubicBezTo>
                    <a:pt x="46" y="257"/>
                    <a:pt x="114" y="181"/>
                    <a:pt x="159" y="136"/>
                  </a:cubicBezTo>
                  <a:cubicBezTo>
                    <a:pt x="204" y="91"/>
                    <a:pt x="242" y="69"/>
                    <a:pt x="295" y="46"/>
                  </a:cubicBezTo>
                  <a:cubicBezTo>
                    <a:pt x="348" y="23"/>
                    <a:pt x="412" y="11"/>
                    <a:pt x="477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80000" y="2781360"/>
              <a:ext cx="21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Φω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50920" y="62373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Άσκηση 6,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24000" y="115920"/>
            <a:ext cx="842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Τέλεια καύση των υδρογονανθράκω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1692360" y="695160"/>
            <a:ext cx="151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57440" y="692280"/>
            <a:ext cx="151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3440" y="69516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86920" y="69516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508720" y="695160"/>
            <a:ext cx="18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84720" y="6984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67280" y="69840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16360" y="6984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8133000">
            <a:off x="4359600" y="290880"/>
            <a:ext cx="11491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8133000">
            <a:off x="6088680" y="219240"/>
            <a:ext cx="11484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16360" y="1490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516720" y="1417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003640" y="1851120"/>
            <a:ext cx="64800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724000" y="1778040"/>
            <a:ext cx="79236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08720" y="21384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1552680"/>
            <a:ext cx="172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29080" y="1549440"/>
            <a:ext cx="151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45080" y="1552680"/>
            <a:ext cx="100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58560" y="155268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80000" y="1552680"/>
            <a:ext cx="180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56000" y="155592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38920" y="15559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87640" y="15559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8133000">
            <a:off x="4431240" y="1148760"/>
            <a:ext cx="114840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8133000">
            <a:off x="6159960" y="1076400"/>
            <a:ext cx="11484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88000" y="2347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88000" y="2274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75280" y="2708280"/>
            <a:ext cx="64764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796000" y="2635200"/>
            <a:ext cx="792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08720" y="29955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47640" y="2357280"/>
            <a:ext cx="172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629080" y="2354400"/>
            <a:ext cx="151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45080" y="2357280"/>
            <a:ext cx="100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58560" y="235728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80000" y="2357280"/>
            <a:ext cx="180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356000" y="236052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938920" y="23605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87640" y="23605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8133000">
            <a:off x="4431240" y="1952640"/>
            <a:ext cx="11484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8133000">
            <a:off x="6159960" y="1881360"/>
            <a:ext cx="11484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88000" y="3152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88000" y="3079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75280" y="3513240"/>
            <a:ext cx="64764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796000" y="3440160"/>
            <a:ext cx="792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508720" y="38005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149640"/>
            <a:ext cx="172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629080" y="3146400"/>
            <a:ext cx="151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45080" y="3149640"/>
            <a:ext cx="100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58560" y="314964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580000" y="3149640"/>
            <a:ext cx="180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356000" y="315288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8920" y="31528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843280" y="31528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8133000">
            <a:off x="4431240" y="2745000"/>
            <a:ext cx="11484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8133000">
            <a:off x="6159960" y="2673360"/>
            <a:ext cx="11484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88000" y="394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588000" y="3871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75280" y="4305240"/>
            <a:ext cx="64764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796000" y="4232160"/>
            <a:ext cx="792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08720" y="45925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47640" y="3929040"/>
            <a:ext cx="172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629080" y="3925800"/>
            <a:ext cx="151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645080" y="3929040"/>
            <a:ext cx="100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58560" y="392904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580000" y="3929040"/>
            <a:ext cx="180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356000" y="393228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796000" y="3932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914560" y="3932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8133000">
            <a:off x="4431240" y="3524400"/>
            <a:ext cx="11484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8133000">
            <a:off x="6159960" y="3453840"/>
            <a:ext cx="114840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47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88000" y="46512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75280" y="5084640"/>
            <a:ext cx="647640" cy="28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796000" y="5011560"/>
            <a:ext cx="792000" cy="360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08720" y="5372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547640" y="4576680"/>
            <a:ext cx="172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29080" y="4573440"/>
            <a:ext cx="151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45080" y="4576680"/>
            <a:ext cx="100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58560" y="457668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580000" y="4576680"/>
            <a:ext cx="180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356000" y="457992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796000" y="457992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8133000">
            <a:off x="4431240" y="4172040"/>
            <a:ext cx="11484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8133000">
            <a:off x="6159960" y="4100760"/>
            <a:ext cx="11484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88000" y="5372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88000" y="52992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75280" y="5732640"/>
            <a:ext cx="64764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796000" y="5659560"/>
            <a:ext cx="792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508720" y="60199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2914560" y="4443480"/>
            <a:ext cx="720720" cy="1021320"/>
            <a:chOff x="2914560" y="4443480"/>
            <a:chExt cx="720720" cy="1021320"/>
          </a:xfrm>
        </p:grpSpPr>
        <p:sp>
          <p:nvSpPr>
            <p:cNvPr id="400" name=""/>
            <p:cNvSpPr/>
            <p:nvPr/>
          </p:nvSpPr>
          <p:spPr>
            <a:xfrm>
              <a:off x="2914560" y="444348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ahoma"/>
                </a:rPr>
                <a:t>1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87640" y="4954680"/>
              <a:ext cx="57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16360" y="488340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547640" y="5362560"/>
            <a:ext cx="172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629080" y="5359320"/>
            <a:ext cx="151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45080" y="5362560"/>
            <a:ext cx="100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58560" y="536256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80000" y="5362560"/>
            <a:ext cx="180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56000" y="536580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796000" y="53658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8133000">
            <a:off x="4431240" y="4957920"/>
            <a:ext cx="11484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8133000">
            <a:off x="6159960" y="4887360"/>
            <a:ext cx="114840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788000" y="61578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588000" y="6084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075280" y="6518160"/>
            <a:ext cx="433440" cy="1508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867280" y="6445080"/>
            <a:ext cx="720720" cy="223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08720" y="6491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914560" y="5229360"/>
            <a:ext cx="720720" cy="1021320"/>
            <a:chOff x="2914560" y="5229360"/>
            <a:chExt cx="720720" cy="1021320"/>
          </a:xfrm>
        </p:grpSpPr>
        <p:sp>
          <p:nvSpPr>
            <p:cNvPr id="418" name=""/>
            <p:cNvSpPr/>
            <p:nvPr/>
          </p:nvSpPr>
          <p:spPr>
            <a:xfrm>
              <a:off x="2914560" y="522936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ahoma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87640" y="5740560"/>
              <a:ext cx="57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916360" y="5669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0" y="645336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Άσκηση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4032360" cy="35686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24000" y="115920"/>
            <a:ext cx="842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Ατελής καύση των υδρογονανθράκω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4" name=""/>
          <p:cNvSpPr/>
          <p:nvPr/>
        </p:nvSpPr>
        <p:spPr>
          <a:xfrm>
            <a:off x="2484360" y="1844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030560" y="765000"/>
            <a:ext cx="5113440" cy="6093000"/>
          </a:xfrm>
          <a:prstGeom prst="rect">
            <a:avLst/>
          </a:prstGeom>
          <a:ln w="0">
            <a:noFill/>
          </a:ln>
        </p:spPr>
      </p:pic>
      <p:grpSp>
        <p:nvGrpSpPr>
          <p:cNvPr id="426" name=""/>
          <p:cNvGrpSpPr/>
          <p:nvPr/>
        </p:nvGrpSpPr>
        <p:grpSpPr>
          <a:xfrm>
            <a:off x="6046920" y="5373720"/>
            <a:ext cx="1512720" cy="719280"/>
            <a:chOff x="6046920" y="5373720"/>
            <a:chExt cx="1512720" cy="719280"/>
          </a:xfrm>
        </p:grpSpPr>
        <p:sp>
          <p:nvSpPr>
            <p:cNvPr id="427" name=""/>
            <p:cNvSpPr/>
            <p:nvPr/>
          </p:nvSpPr>
          <p:spPr>
            <a:xfrm>
              <a:off x="6046920" y="5373720"/>
              <a:ext cx="151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lang="en-US" sz="3200" spc="-1" strike="noStrike" baseline="-25000">
                  <a:solidFill>
                    <a:srgbClr val="ffff99"/>
                  </a:solidFill>
                  <a:latin typeface="Tahoma"/>
                </a:rPr>
                <a:t>4</a:t>
              </a:r>
              <a:r>
                <a:rPr b="1" lang="en-US" sz="3200" spc="-1" strike="noStrike">
                  <a:solidFill>
                    <a:srgbClr val="ffff99"/>
                  </a:solidFill>
                  <a:latin typeface="Tahoma"/>
                </a:rPr>
                <a:t>H</a:t>
              </a:r>
              <a:r>
                <a:rPr b="1" lang="en-US" sz="3200" spc="-1" strike="noStrike" baseline="-25000">
                  <a:solidFill>
                    <a:srgbClr val="ffff99"/>
                  </a:solidFill>
                  <a:latin typeface="Tahoma"/>
                </a:rPr>
                <a:t>1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6119640" y="5950080"/>
              <a:ext cx="502920" cy="142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370560" y="1484280"/>
            <a:ext cx="1765440" cy="1008000"/>
            <a:chOff x="6370560" y="1484280"/>
            <a:chExt cx="1765440" cy="1008000"/>
          </a:xfrm>
        </p:grpSpPr>
        <p:sp>
          <p:nvSpPr>
            <p:cNvPr id="430" name=""/>
            <p:cNvSpPr/>
            <p:nvPr/>
          </p:nvSpPr>
          <p:spPr>
            <a:xfrm>
              <a:off x="6370560" y="1700280"/>
              <a:ext cx="757440" cy="792000"/>
            </a:xfrm>
            <a:custGeom>
              <a:avLst/>
              <a:gdLst/>
              <a:ahLst/>
              <a:rect l="l" t="t" r="r" b="b"/>
              <a:pathLst>
                <a:path w="477" h="499">
                  <a:moveTo>
                    <a:pt x="23" y="499"/>
                  </a:moveTo>
                  <a:cubicBezTo>
                    <a:pt x="11" y="439"/>
                    <a:pt x="0" y="379"/>
                    <a:pt x="23" y="318"/>
                  </a:cubicBezTo>
                  <a:cubicBezTo>
                    <a:pt x="46" y="257"/>
                    <a:pt x="114" y="181"/>
                    <a:pt x="159" y="136"/>
                  </a:cubicBezTo>
                  <a:cubicBezTo>
                    <a:pt x="204" y="91"/>
                    <a:pt x="242" y="69"/>
                    <a:pt x="295" y="46"/>
                  </a:cubicBezTo>
                  <a:cubicBezTo>
                    <a:pt x="348" y="23"/>
                    <a:pt x="412" y="11"/>
                    <a:pt x="477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28000" y="148428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405840" y="1909800"/>
            <a:ext cx="2017440" cy="733320"/>
            <a:chOff x="6405840" y="1909800"/>
            <a:chExt cx="2017440" cy="733320"/>
          </a:xfrm>
        </p:grpSpPr>
        <p:sp>
          <p:nvSpPr>
            <p:cNvPr id="433" name=""/>
            <p:cNvSpPr/>
            <p:nvPr/>
          </p:nvSpPr>
          <p:spPr>
            <a:xfrm rot="1057800">
              <a:off x="6478560" y="1989000"/>
              <a:ext cx="612720" cy="574920"/>
            </a:xfrm>
            <a:custGeom>
              <a:avLst/>
              <a:gdLst/>
              <a:ahLst/>
              <a:rect l="l" t="t" r="r" b="b"/>
              <a:pathLst>
                <a:path w="477" h="499">
                  <a:moveTo>
                    <a:pt x="23" y="499"/>
                  </a:moveTo>
                  <a:cubicBezTo>
                    <a:pt x="11" y="439"/>
                    <a:pt x="0" y="379"/>
                    <a:pt x="23" y="318"/>
                  </a:cubicBezTo>
                  <a:cubicBezTo>
                    <a:pt x="46" y="257"/>
                    <a:pt x="114" y="181"/>
                    <a:pt x="159" y="136"/>
                  </a:cubicBezTo>
                  <a:cubicBezTo>
                    <a:pt x="204" y="91"/>
                    <a:pt x="242" y="69"/>
                    <a:pt x="295" y="46"/>
                  </a:cubicBezTo>
                  <a:cubicBezTo>
                    <a:pt x="348" y="23"/>
                    <a:pt x="412" y="11"/>
                    <a:pt x="477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99280" y="1916280"/>
              <a:ext cx="122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H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427440" y="2150640"/>
            <a:ext cx="2716560" cy="1145880"/>
            <a:chOff x="6427440" y="2150640"/>
            <a:chExt cx="2716560" cy="1145880"/>
          </a:xfrm>
        </p:grpSpPr>
        <p:sp>
          <p:nvSpPr>
            <p:cNvPr id="436" name=""/>
            <p:cNvSpPr/>
            <p:nvPr/>
          </p:nvSpPr>
          <p:spPr>
            <a:xfrm rot="2644200">
              <a:off x="6551280" y="2205000"/>
              <a:ext cx="360360" cy="503280"/>
            </a:xfrm>
            <a:custGeom>
              <a:avLst/>
              <a:gdLst/>
              <a:ahLst/>
              <a:rect l="l" t="t" r="r" b="b"/>
              <a:pathLst>
                <a:path w="477" h="499">
                  <a:moveTo>
                    <a:pt x="23" y="499"/>
                  </a:moveTo>
                  <a:cubicBezTo>
                    <a:pt x="11" y="439"/>
                    <a:pt x="0" y="379"/>
                    <a:pt x="23" y="318"/>
                  </a:cubicBezTo>
                  <a:cubicBezTo>
                    <a:pt x="46" y="257"/>
                    <a:pt x="114" y="181"/>
                    <a:pt x="159" y="136"/>
                  </a:cubicBezTo>
                  <a:cubicBezTo>
                    <a:pt x="204" y="91"/>
                    <a:pt x="242" y="69"/>
                    <a:pt x="295" y="46"/>
                  </a:cubicBezTo>
                  <a:cubicBezTo>
                    <a:pt x="348" y="23"/>
                    <a:pt x="412" y="11"/>
                    <a:pt x="477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83280" y="2349360"/>
              <a:ext cx="2160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Θερμότητα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032720" y="1268280"/>
            <a:ext cx="1869120" cy="1368000"/>
            <a:chOff x="4032720" y="1268280"/>
            <a:chExt cx="1869120" cy="1368000"/>
          </a:xfrm>
        </p:grpSpPr>
        <p:sp>
          <p:nvSpPr>
            <p:cNvPr id="439" name=""/>
            <p:cNvSpPr/>
            <p:nvPr/>
          </p:nvSpPr>
          <p:spPr>
            <a:xfrm>
              <a:off x="4032720" y="1484280"/>
              <a:ext cx="1869120" cy="115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35640" y="1268280"/>
              <a:ext cx="647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Tahoma"/>
                </a:rPr>
                <a:t>Ο</a:t>
              </a:r>
              <a:r>
                <a:rPr b="1" lang="en-US" sz="2800" spc="-1" strike="noStrike" baseline="-25000">
                  <a:solidFill>
                    <a:srgbClr val="ffff99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00720" y="1125360"/>
            <a:ext cx="1765440" cy="1008000"/>
            <a:chOff x="6300720" y="1125360"/>
            <a:chExt cx="1765440" cy="1008000"/>
          </a:xfrm>
        </p:grpSpPr>
        <p:sp>
          <p:nvSpPr>
            <p:cNvPr id="442" name=""/>
            <p:cNvSpPr/>
            <p:nvPr/>
          </p:nvSpPr>
          <p:spPr>
            <a:xfrm>
              <a:off x="6300720" y="1341360"/>
              <a:ext cx="757440" cy="792000"/>
            </a:xfrm>
            <a:custGeom>
              <a:avLst/>
              <a:gdLst/>
              <a:ahLst/>
              <a:rect l="l" t="t" r="r" b="b"/>
              <a:pathLst>
                <a:path w="477" h="499">
                  <a:moveTo>
                    <a:pt x="23" y="499"/>
                  </a:moveTo>
                  <a:cubicBezTo>
                    <a:pt x="11" y="439"/>
                    <a:pt x="0" y="379"/>
                    <a:pt x="23" y="318"/>
                  </a:cubicBezTo>
                  <a:cubicBezTo>
                    <a:pt x="46" y="257"/>
                    <a:pt x="114" y="181"/>
                    <a:pt x="159" y="136"/>
                  </a:cubicBezTo>
                  <a:cubicBezTo>
                    <a:pt x="204" y="91"/>
                    <a:pt x="242" y="69"/>
                    <a:pt x="295" y="46"/>
                  </a:cubicBezTo>
                  <a:cubicBezTo>
                    <a:pt x="348" y="23"/>
                    <a:pt x="412" y="11"/>
                    <a:pt x="477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58160" y="112536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C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0" y="645336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Άσκηση 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24000" y="115920"/>
            <a:ext cx="842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Ατελής καύση των υδρογονανθράκω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6" name=""/>
          <p:cNvSpPr/>
          <p:nvPr/>
        </p:nvSpPr>
        <p:spPr>
          <a:xfrm>
            <a:off x="1692360" y="898560"/>
            <a:ext cx="151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57440" y="895320"/>
            <a:ext cx="151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73440" y="8985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886920" y="89856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508720" y="898560"/>
            <a:ext cx="18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284720" y="9018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867280" y="90180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8133000">
            <a:off x="4359600" y="494280"/>
            <a:ext cx="11491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8133000">
            <a:off x="6088680" y="422280"/>
            <a:ext cx="11484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716360" y="1693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516720" y="1620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003640" y="2054160"/>
            <a:ext cx="64800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5724000" y="1981080"/>
            <a:ext cx="79236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508720" y="2341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843280" y="754200"/>
            <a:ext cx="720720" cy="1021320"/>
            <a:chOff x="2843280" y="754200"/>
            <a:chExt cx="720720" cy="1021320"/>
          </a:xfrm>
        </p:grpSpPr>
        <p:sp>
          <p:nvSpPr>
            <p:cNvPr id="461" name=""/>
            <p:cNvSpPr/>
            <p:nvPr/>
          </p:nvSpPr>
          <p:spPr>
            <a:xfrm>
              <a:off x="2843280" y="754200"/>
              <a:ext cx="7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ahoma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16360" y="1265400"/>
              <a:ext cx="57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45080" y="11941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835280" y="3068640"/>
            <a:ext cx="151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700360" y="3065400"/>
            <a:ext cx="151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16360" y="3068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029840" y="306864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651640" y="3068640"/>
            <a:ext cx="180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27640" y="30718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10200" y="307188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8133000">
            <a:off x="6231600" y="2593440"/>
            <a:ext cx="114840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59640" y="3790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059280" y="306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645336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Άσκηση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1042920" y="0"/>
            <a:ext cx="6840720" cy="5381640"/>
            <a:chOff x="1042920" y="0"/>
            <a:chExt cx="6840720" cy="5381640"/>
          </a:xfrm>
        </p:grpSpPr>
        <p:pic>
          <p:nvPicPr>
            <p:cNvPr id="476" name="" descr=""/>
            <p:cNvPicPr/>
            <p:nvPr/>
          </p:nvPicPr>
          <p:blipFill>
            <a:blip r:embed="rId1"/>
            <a:stretch/>
          </p:blipFill>
          <p:spPr>
            <a:xfrm>
              <a:off x="1042920" y="0"/>
              <a:ext cx="684072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2"/>
            <a:stretch/>
          </p:blipFill>
          <p:spPr>
            <a:xfrm>
              <a:off x="1042920" y="431640"/>
              <a:ext cx="6840720" cy="495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"/>
          <p:cNvSpPr/>
          <p:nvPr/>
        </p:nvSpPr>
        <p:spPr>
          <a:xfrm>
            <a:off x="2050920" y="5229360"/>
            <a:ext cx="0" cy="360360"/>
          </a:xfrm>
          <a:prstGeom prst="line">
            <a:avLst/>
          </a:prstGeom>
          <a:ln w="25560">
            <a:solidFill>
              <a:srgbClr val="9966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4360" y="5445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74bff"/>
                </a:solidFill>
                <a:latin typeface="Tahoma"/>
              </a:rPr>
              <a:t>Υδρογονάνθρακε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595008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καύσιμα = ουσίες που καίγονται για την παραγωγή θερμότητας-ενέργεια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645336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Άσκηση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0" y="1824120"/>
            <a:ext cx="5905440" cy="503388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700360" y="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Καυσαέρια/ Ρύπανσ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32130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Η/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8360" y="3716280"/>
            <a:ext cx="57456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920" y="692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καυσαέρια = αέρια προϊόντα της καύση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564080" y="4076640"/>
            <a:ext cx="4579920" cy="1241640"/>
            <a:chOff x="4564080" y="4076640"/>
            <a:chExt cx="4579920" cy="1241640"/>
          </a:xfrm>
        </p:grpSpPr>
        <p:pic>
          <p:nvPicPr>
            <p:cNvPr id="488" name="" descr=""/>
            <p:cNvPicPr/>
            <p:nvPr/>
          </p:nvPicPr>
          <p:blipFill>
            <a:blip r:embed="rId2"/>
            <a:stretch/>
          </p:blipFill>
          <p:spPr>
            <a:xfrm>
              <a:off x="4564080" y="4653000"/>
              <a:ext cx="45799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5364000" y="4076640"/>
              <a:ext cx="216000" cy="57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4716360" y="5373720"/>
            <a:ext cx="4427640" cy="38736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3564000" y="5805360"/>
            <a:ext cx="34560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4"/>
          <a:stretch/>
        </p:blipFill>
        <p:spPr>
          <a:xfrm>
            <a:off x="4716360" y="5834160"/>
            <a:ext cx="4427640" cy="43488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0" y="645336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Άσκηση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8388360" y="3284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5019840" y="2924280"/>
            <a:ext cx="4124160" cy="1363320"/>
            <a:chOff x="5019840" y="2924280"/>
            <a:chExt cx="4124160" cy="1363320"/>
          </a:xfrm>
        </p:grpSpPr>
        <p:grpSp>
          <p:nvGrpSpPr>
            <p:cNvPr id="496" name=""/>
            <p:cNvGrpSpPr/>
            <p:nvPr/>
          </p:nvGrpSpPr>
          <p:grpSpPr>
            <a:xfrm>
              <a:off x="5019840" y="2924280"/>
              <a:ext cx="4124160" cy="1080720"/>
              <a:chOff x="5019840" y="2924280"/>
              <a:chExt cx="4124160" cy="1080720"/>
            </a:xfrm>
          </p:grpSpPr>
          <p:pic>
            <p:nvPicPr>
              <p:cNvPr id="49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019840" y="2924280"/>
                <a:ext cx="4124160" cy="4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8" name=""/>
              <p:cNvSpPr/>
              <p:nvPr/>
            </p:nvSpPr>
            <p:spPr>
              <a:xfrm flipV="1">
                <a:off x="5364000" y="3357360"/>
                <a:ext cx="144720" cy="64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6732720" y="3645000"/>
              <a:ext cx="23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Φαινόμενο θερμοκηπίο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684360" y="115920"/>
            <a:ext cx="8172360" cy="46368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6151680" y="620640"/>
            <a:ext cx="2992320" cy="2443320"/>
          </a:xfrm>
          <a:prstGeom prst="rect">
            <a:avLst/>
          </a:prstGeom>
          <a:ln w="0">
            <a:noFill/>
          </a:ln>
        </p:spPr>
      </p:pic>
      <p:grpSp>
        <p:nvGrpSpPr>
          <p:cNvPr id="502" name=""/>
          <p:cNvGrpSpPr/>
          <p:nvPr/>
        </p:nvGrpSpPr>
        <p:grpSpPr>
          <a:xfrm>
            <a:off x="0" y="620640"/>
            <a:ext cx="4859280" cy="863640"/>
            <a:chOff x="0" y="620640"/>
            <a:chExt cx="4859280" cy="863640"/>
          </a:xfrm>
        </p:grpSpPr>
        <p:pic>
          <p:nvPicPr>
            <p:cNvPr id="503" name="" descr=""/>
            <p:cNvPicPr/>
            <p:nvPr/>
          </p:nvPicPr>
          <p:blipFill>
            <a:blip r:embed="rId3"/>
            <a:stretch/>
          </p:blipFill>
          <p:spPr>
            <a:xfrm>
              <a:off x="0" y="620640"/>
              <a:ext cx="4799160" cy="8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4427640" y="10526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5" name="" descr=""/>
          <p:cNvPicPr/>
          <p:nvPr/>
        </p:nvPicPr>
        <p:blipFill>
          <a:blip r:embed="rId4"/>
          <a:stretch/>
        </p:blipFill>
        <p:spPr>
          <a:xfrm>
            <a:off x="0" y="1530360"/>
            <a:ext cx="6156360" cy="34452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5"/>
          <a:stretch/>
        </p:blipFill>
        <p:spPr>
          <a:xfrm>
            <a:off x="0" y="3141720"/>
            <a:ext cx="9144000" cy="6825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6"/>
          <a:stretch/>
        </p:blipFill>
        <p:spPr>
          <a:xfrm>
            <a:off x="0" y="3789360"/>
            <a:ext cx="9144000" cy="13622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7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95280" y="62064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Ε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χολικό βιβλίο Χημείας Γ΄ Γυμνασίο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ετράδιο εργασιών Χημείας Γ΄ Γυμνασίο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«Ο θαυμαστός κόσμος της Χημείας για το Γυμνάσι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Παπαδημητρόπουλος Νικόλαο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Χημικός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.Sc.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υσικοχημεία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1125360"/>
            <a:ext cx="518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Tahoma"/>
              </a:rPr>
              <a:t>ΜΟΡΙΑΚΟΣ ΤΥΠΟΣ</a:t>
            </a:r>
            <a:r>
              <a:rPr b="1" lang="el-GR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18900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ΟΞΙΚΟ ΟΞ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24000" y="1989000"/>
            <a:ext cx="8496000" cy="1379520"/>
            <a:chOff x="324000" y="1989000"/>
            <a:chExt cx="8496000" cy="1379520"/>
          </a:xfrm>
        </p:grpSpPr>
        <p:sp>
          <p:nvSpPr>
            <p:cNvPr id="131" name=""/>
            <p:cNvSpPr/>
            <p:nvPr/>
          </p:nvSpPr>
          <p:spPr>
            <a:xfrm>
              <a:off x="324000" y="2421000"/>
              <a:ext cx="36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ΣΥΝΤΑΚΤΙΚΟΣ ΤΥΠΟ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3924360" y="1989000"/>
            <a:ext cx="2050920" cy="1379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24360" y="1989000"/>
                      <a:ext cx="2050920" cy="13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6164640" y="2486160"/>
              <a:ext cx="38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ahoma"/>
                </a:rPr>
                <a:t>Ή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32720" y="2492280"/>
              <a:ext cx="208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-COO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0" y="3716280"/>
            <a:ext cx="7061040" cy="2592360"/>
            <a:chOff x="0" y="3716280"/>
            <a:chExt cx="7061040" cy="2592360"/>
          </a:xfrm>
        </p:grpSpPr>
        <p:sp>
          <p:nvSpPr>
            <p:cNvPr id="137" name=""/>
            <p:cNvSpPr/>
            <p:nvPr/>
          </p:nvSpPr>
          <p:spPr>
            <a:xfrm>
              <a:off x="0" y="5013360"/>
              <a:ext cx="45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MO</a:t>
              </a:r>
              <a:r>
                <a:rPr b="1" lang="el-GR" sz="2400" spc="-1" strike="noStrike">
                  <a:solidFill>
                    <a:srgbClr val="ffff00"/>
                  </a:solidFill>
                  <a:latin typeface="Tahoma"/>
                </a:rPr>
                <a:t>ΡΙΑΚΟ ΠΡΟΣΟΜΕΙΩΜ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4643280" y="3716280"/>
              <a:ext cx="2417760" cy="25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0" y="64911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ΕΡΩΤΗΣΕΙΣ 1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627280" y="26028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ΧΗΜΙΚΕΣ ΕΝΩΣΕΙ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1640" y="620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64000" y="1557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ΑΝΟΡΓΑΝΕΣ ΕΝΩΣΕΙ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907640" y="1125360"/>
            <a:ext cx="2303640" cy="358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11640" y="1125360"/>
            <a:ext cx="2089080" cy="28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1557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ΟΡΓΑΝΙΚΕΣ ΕΝΩΣΕΙ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4284720" cy="6858000"/>
          </a:xfrm>
          <a:prstGeom prst="rect">
            <a:avLst/>
          </a:prstGeom>
          <a:solidFill>
            <a:srgbClr val="ffff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83664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1665360"/>
            <a:ext cx="151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24360" y="2384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96000" y="303228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96000" y="3824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4832280"/>
            <a:ext cx="151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40360" y="5624640"/>
            <a:ext cx="165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83664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148428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234936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314172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4005360"/>
            <a:ext cx="151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4941720"/>
            <a:ext cx="151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558972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9280" y="44280"/>
            <a:ext cx="3619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οργανικές ενώσει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3280" y="44280"/>
            <a:ext cx="36198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ανόργανες ενώσεις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0"/>
            <a:ext cx="0" cy="685800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79280" y="260280"/>
            <a:ext cx="7632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Ποιες ονομάζονται οργανικές ενώσεις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981000"/>
            <a:ext cx="9144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99"/>
                </a:solidFill>
                <a:latin typeface="Tahoma"/>
              </a:rPr>
              <a:t>Οι ενώσεις που περιέχουν άνθρακα 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C). </a:t>
            </a:r>
            <a:r>
              <a:rPr b="1" lang="el-GR" sz="2000" spc="-1" strike="noStrike">
                <a:solidFill>
                  <a:srgbClr val="ff3300"/>
                </a:solidFill>
                <a:latin typeface="Tahoma"/>
              </a:rPr>
              <a:t>Εξαιρέσεις: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CO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ahoma"/>
              </a:rPr>
              <a:t>2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, CO , </a:t>
            </a:r>
            <a:r>
              <a:rPr b="1" lang="el-GR" sz="2000" spc="-1" strike="noStrike">
                <a:solidFill>
                  <a:srgbClr val="ff3300"/>
                </a:solidFill>
                <a:latin typeface="Tahoma"/>
              </a:rPr>
              <a:t>ανθρακικά άλατα π.χ.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CaCO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98900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Άσκηση: Ποιες από τις παρακάτω ενώσεις είναι οργανικέ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292428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H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5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8000" y="2924280"/>
            <a:ext cx="151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800000"/>
                </a:solidFill>
                <a:latin typeface="Tahoma"/>
              </a:rPr>
              <a:t>Κ</a:t>
            </a:r>
            <a:r>
              <a:rPr b="1" lang="el-GR" sz="2400" spc="-1" strike="noStrike" baseline="-25000">
                <a:solidFill>
                  <a:srgbClr val="8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SO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92360" y="2924280"/>
            <a:ext cx="151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H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03640" y="2924280"/>
            <a:ext cx="180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H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H</a:t>
            </a:r>
            <a:r>
              <a:rPr b="1" lang="el-GR" sz="2400" spc="-1" strike="noStrike" baseline="-25000">
                <a:solidFill>
                  <a:srgbClr val="8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77080" y="2924280"/>
            <a:ext cx="180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O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361944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H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SO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8000" y="3619440"/>
            <a:ext cx="151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O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619440"/>
            <a:ext cx="151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H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03640" y="3619440"/>
            <a:ext cx="180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H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PO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77080" y="36194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79280" y="260280"/>
            <a:ext cx="7632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Ποιες ονομάζονται οργανικές ενώσεις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981000"/>
            <a:ext cx="9144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99"/>
                </a:solidFill>
                <a:latin typeface="Tahoma"/>
              </a:rPr>
              <a:t>Οι ενώσεις που περιέχουν άνθρακα 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C). </a:t>
            </a:r>
            <a:r>
              <a:rPr b="1" lang="el-GR" sz="2000" spc="-1" strike="noStrike">
                <a:solidFill>
                  <a:srgbClr val="ff3300"/>
                </a:solidFill>
                <a:latin typeface="Tahoma"/>
              </a:rPr>
              <a:t>Εξαιρέσεις: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CO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ahoma"/>
              </a:rPr>
              <a:t>2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, CO , </a:t>
            </a:r>
            <a:r>
              <a:rPr b="1" lang="el-GR" sz="2000" spc="-1" strike="noStrike">
                <a:solidFill>
                  <a:srgbClr val="ff3300"/>
                </a:solidFill>
                <a:latin typeface="Tahoma"/>
              </a:rPr>
              <a:t>ανθρακικά άλατα π.χ.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CaCO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98900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Άσκηση: Ποιες από τις παρακάτω ενώσεις είναι οργανικέ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292428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ahoma"/>
              </a:rPr>
              <a:t>5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8000" y="2924280"/>
            <a:ext cx="151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800000"/>
                </a:solidFill>
                <a:latin typeface="Tahoma"/>
              </a:rPr>
              <a:t>Κ</a:t>
            </a:r>
            <a:r>
              <a:rPr b="1" lang="el-GR" sz="2400" spc="-1" strike="noStrike" baseline="-25000">
                <a:solidFill>
                  <a:srgbClr val="8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SO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2924280"/>
            <a:ext cx="151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H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03640" y="2924280"/>
            <a:ext cx="180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H</a:t>
            </a:r>
            <a:r>
              <a:rPr b="1" lang="el-GR" sz="2400" spc="-1" strike="noStrike" baseline="-25000">
                <a:solidFill>
                  <a:srgbClr val="ff33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2924280"/>
            <a:ext cx="180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O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361944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H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SO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8000" y="3619440"/>
            <a:ext cx="151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O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3619440"/>
            <a:ext cx="151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03640" y="3619440"/>
            <a:ext cx="180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H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PO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36194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4911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ΕΡΩΤΗΣΗ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627280" y="26028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ΧΗΜΙΚΕΣ ΕΝΩΣΕΙ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11640" y="620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64000" y="1557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ΑΝΟΡΓΑΝΕΣ ΕΝΩΣΕΙ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907640" y="1125360"/>
            <a:ext cx="2303640" cy="358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11640" y="1125360"/>
            <a:ext cx="2089080" cy="28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1557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ΟΡΓΑΝΙΚΕΣ ΕΝΩΣΕΙ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52360" y="1844640"/>
            <a:ext cx="5040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ahoma"/>
              </a:rPr>
              <a:t>Οι ενώσεις που περιέχουν άνθρακα (</a:t>
            </a:r>
            <a:r>
              <a:rPr b="1" i="1" lang="en-US" sz="1400" spc="-1" strike="noStrike">
                <a:solidFill>
                  <a:srgbClr val="cc3300"/>
                </a:solidFill>
                <a:latin typeface="Tahoma"/>
              </a:rPr>
              <a:t>C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 u="sng">
                <a:solidFill>
                  <a:srgbClr val="000000"/>
                </a:solidFill>
                <a:uFillTx/>
                <a:latin typeface="Tahoma"/>
              </a:rPr>
              <a:t>Εξαιρέσεις</a:t>
            </a:r>
            <a:r>
              <a:rPr b="1" i="1" lang="el-GR" sz="1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, CO , </a:t>
            </a:r>
            <a:r>
              <a:rPr b="1" i="1" lang="el-GR" sz="1400" spc="-1" strike="noStrike">
                <a:solidFill>
                  <a:srgbClr val="000000"/>
                </a:solidFill>
                <a:latin typeface="Tahoma"/>
              </a:rPr>
              <a:t>ανθρακικά άλατα π.χ.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CaCO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40360" y="1989000"/>
            <a:ext cx="19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Οι υπόλοιπε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2492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.00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036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00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39640" y="0"/>
            <a:ext cx="7632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Οι οργανικές ενώσεις είναι περίπου 12.000.0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337440" cy="3828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68360" y="620640"/>
            <a:ext cx="84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Για ποιο λόγο οι οργανικές ενώσεις είναι τόσο πολλές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95280" y="4843080"/>
            <a:ext cx="8570520" cy="1833840"/>
            <a:chOff x="395280" y="4843080"/>
            <a:chExt cx="8570520" cy="1833840"/>
          </a:xfrm>
        </p:grpSpPr>
        <p:grpSp>
          <p:nvGrpSpPr>
            <p:cNvPr id="208" name=""/>
            <p:cNvGrpSpPr/>
            <p:nvPr/>
          </p:nvGrpSpPr>
          <p:grpSpPr>
            <a:xfrm>
              <a:off x="539280" y="4843080"/>
              <a:ext cx="1942920" cy="936360"/>
              <a:chOff x="539280" y="4843080"/>
              <a:chExt cx="1942920" cy="936360"/>
            </a:xfrm>
          </p:grpSpPr>
          <p:sp>
            <p:nvSpPr>
              <p:cNvPr id="209" name=""/>
              <p:cNvSpPr/>
              <p:nvPr/>
            </p:nvSpPr>
            <p:spPr>
              <a:xfrm>
                <a:off x="955080" y="5378400"/>
                <a:ext cx="136800" cy="40104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677160" y="4976640"/>
                <a:ext cx="1663560" cy="533880"/>
                <a:chOff x="677160" y="4976640"/>
                <a:chExt cx="1663560" cy="5338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7160" y="4976640"/>
                  <a:ext cx="555840" cy="53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a4a4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229400" y="5245560"/>
                  <a:ext cx="555840" cy="0"/>
                </a:xfrm>
                <a:prstGeom prst="line">
                  <a:avLst/>
                </a:prstGeom>
                <a:ln w="349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785600" y="4976640"/>
                  <a:ext cx="555120" cy="53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a4a4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39640" y="4843440"/>
                <a:ext cx="281160" cy="26568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539280" y="5378400"/>
                <a:ext cx="277560" cy="26820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01040" y="5378400"/>
                <a:ext cx="281160" cy="26568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2201040" y="4843080"/>
                <a:ext cx="277560" cy="26892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flipV="1">
                <a:off x="1785600" y="4843080"/>
                <a:ext cx="137520" cy="26892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3564000" y="4843440"/>
              <a:ext cx="1870920" cy="791280"/>
              <a:chOff x="3564000" y="4843440"/>
              <a:chExt cx="1870920" cy="791280"/>
            </a:xfrm>
          </p:grpSpPr>
          <p:sp>
            <p:nvSpPr>
              <p:cNvPr id="220" name=""/>
              <p:cNvSpPr/>
              <p:nvPr/>
            </p:nvSpPr>
            <p:spPr>
              <a:xfrm>
                <a:off x="4096800" y="5369760"/>
                <a:ext cx="799560" cy="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96480" y="4974480"/>
                <a:ext cx="534960" cy="5263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a4a4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228920" y="5239080"/>
                <a:ext cx="667800" cy="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764600" y="4974480"/>
                <a:ext cx="534960" cy="5263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a4a4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564000" y="4843440"/>
                <a:ext cx="270720" cy="26172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564000" y="5369760"/>
                <a:ext cx="267840" cy="26496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164200" y="5369760"/>
                <a:ext cx="270720" cy="26172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164200" y="4843440"/>
                <a:ext cx="267840" cy="26424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6372360" y="4987800"/>
              <a:ext cx="2593440" cy="575640"/>
              <a:chOff x="6372360" y="4987800"/>
              <a:chExt cx="2593440" cy="575640"/>
            </a:xfrm>
          </p:grpSpPr>
          <p:sp>
            <p:nvSpPr>
              <p:cNvPr id="229" name=""/>
              <p:cNvSpPr/>
              <p:nvPr/>
            </p:nvSpPr>
            <p:spPr>
              <a:xfrm>
                <a:off x="7238520" y="5134320"/>
                <a:ext cx="864000" cy="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8388360" y="5277240"/>
                <a:ext cx="577440" cy="360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6372360" y="5277240"/>
                <a:ext cx="577440" cy="360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235640" y="5420880"/>
                <a:ext cx="864000" cy="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803640" y="4987800"/>
                <a:ext cx="578160" cy="5756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a4a4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378200" y="5277240"/>
                <a:ext cx="721440" cy="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56360" y="4987800"/>
                <a:ext cx="578160" cy="5756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a4a4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95280" y="585144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Απλός δεσμό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76720" y="585144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Διπλός δεσμό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72360" y="5851440"/>
              <a:ext cx="259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Τριπλός δεσμό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0" y="649116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ΕΡΩΤΗΣΗ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627280" y="26028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ΧΗΜΙΚΕΣ ΕΝΩΣΕΙ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11640" y="620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64000" y="1557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ΑΝΟΡΓΑΝΕΣ ΕΝΩΣΕΙ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907640" y="1125360"/>
            <a:ext cx="2303640" cy="358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11640" y="1125360"/>
            <a:ext cx="2089080" cy="28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1557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ΟΡΓΑΝΙΚΕΣ ΕΝΩΣΕΙ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-252360" y="1844640"/>
            <a:ext cx="5040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ahoma"/>
              </a:rPr>
              <a:t>Οι ενώσεις που περιέχουν άνθρακα (</a:t>
            </a:r>
            <a:r>
              <a:rPr b="1" i="1" lang="en-US" sz="1400" spc="-1" strike="noStrike">
                <a:solidFill>
                  <a:srgbClr val="cc3300"/>
                </a:solidFill>
                <a:latin typeface="Tahoma"/>
              </a:rPr>
              <a:t>C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 u="sng">
                <a:solidFill>
                  <a:srgbClr val="000000"/>
                </a:solidFill>
                <a:uFillTx/>
                <a:latin typeface="Tahoma"/>
              </a:rPr>
              <a:t>Εξαιρέσεις</a:t>
            </a:r>
            <a:r>
              <a:rPr b="1" i="1" lang="el-GR" sz="1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, CO , </a:t>
            </a:r>
            <a:r>
              <a:rPr b="1" i="1" lang="el-GR" sz="1400" spc="-1" strike="noStrike">
                <a:solidFill>
                  <a:srgbClr val="000000"/>
                </a:solidFill>
                <a:latin typeface="Tahoma"/>
              </a:rPr>
              <a:t>ανθρακικά άλατα π.χ. 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CaCO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40360" y="1989000"/>
            <a:ext cx="19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Οι υπόλοιπε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5640" y="2492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.00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00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08000" y="2781360"/>
            <a:ext cx="4535280" cy="871560"/>
            <a:chOff x="108000" y="2781360"/>
            <a:chExt cx="4535280" cy="871560"/>
          </a:xfrm>
        </p:grpSpPr>
        <p:sp>
          <p:nvSpPr>
            <p:cNvPr id="251" name=""/>
            <p:cNvSpPr/>
            <p:nvPr/>
          </p:nvSpPr>
          <p:spPr>
            <a:xfrm flipH="1">
              <a:off x="1187280" y="2781360"/>
              <a:ext cx="93672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95640" y="2781360"/>
              <a:ext cx="93636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8000" y="328464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ahoma"/>
                </a:rPr>
                <a:t>Υδρογονάνθρακε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95640" y="2781360"/>
              <a:ext cx="50472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195640" y="2781360"/>
              <a:ext cx="1368360" cy="431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56000" y="328464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Άλλες κατηγορίε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43:56Z</dcterms:created>
  <dc:creator>nik</dc:creator>
  <dc:description/>
  <dc:language>en-US</dc:language>
  <cp:lastModifiedBy>ΝΙΚΟΣ</cp:lastModifiedBy>
  <dcterms:modified xsi:type="dcterms:W3CDTF">2011-02-10T15:27:25Z</dcterms:modified>
  <cp:revision>18</cp:revision>
  <dc:subject/>
  <dc:title>Διαφάνεια 1</dc:title>
</cp:coreProperties>
</file>